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3629-B316-46F1-8AE8-F7BA89784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CD8A-7E25-40F8-8131-C97AB285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D57B-97EE-4E24-A726-10A39424E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377C-4809-4A45-A7F4-1CE77EC04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0373-5BFF-4232-89E0-7AF1FE5C4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2B38-B993-4426-9E1F-DFFF5ADA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6CA7-BDDF-40F1-9390-E2E15F03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5E84-38DC-4C2F-B3B9-30E9E3E0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3B24-7C68-41C3-82F2-5A84B4B4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B670-6429-434E-B925-2FC3007C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D6C5-9690-4747-9B54-367ABE29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3AD0-4954-490D-949F-0911951A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7683-9AF4-42E7-9F6F-B1016CCE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9607-354C-4F82-81F9-17EF9932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D8DA-F152-432F-BA1A-6A97B6D1A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A7A4-6C5D-4FFE-AE59-92A27A02F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76C97-C205-4C0C-8E8E-421F0DA15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EED8E-8DBA-4C7E-AE13-6C95E76F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A2C28-A752-45A7-AB24-70EDDA3E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E22D3-47D7-436F-B7D4-021EFAAE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30063-725A-4626-AC91-291E896B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067ED-CF62-4AF9-B416-D27FCCD1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E33CD-8B7B-40C0-9410-B25D5223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95E11-6E0D-4F02-AA7D-C7FEF71C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7D394-349D-471F-A7BA-06940458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16A54-B6FB-424D-885A-79E2E528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91390-18CF-4194-ACA0-741E9EC89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3BF1F-BB05-45DE-81BD-8CBF0A3FF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1FF0-B7A9-464E-B8B1-B2F8A763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BFD9-7886-483B-B926-2BB41592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42B4-5427-48F3-80BF-2C9F6CF7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5AAB-07AA-4D52-8F83-9816AB2D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203A-E6C4-419F-8C51-43B271F3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C571-A937-44C1-9F76-F2A29035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B4ED-041E-4473-80FB-48283CD1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8098-4685-4AD6-B817-5F5D2A14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C0DA-5058-47E4-8276-6EB14CD542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587B-775C-4EBE-8023-2D5CC23E7535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0E5D-86C6-4BB1-BEB6-9EFAAA2F6051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07880" y="65088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Calibri"/>
              </a:rPr>
              <a:t>Odvajanje in čiščenje odpadne vode na območju vodonosnika Ljubljanskega polja – veliki projek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31560" y="13917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Odbor za spremljanje se seznanja, da se na podlagi ugotovitev predhodnega strokovnega pregleda projektov v pripravi s strani evropske pobude JASPERS projekt »Odvajanje in čiščenje odpadne vode na območju vodonosnika Ljubljanskega polja - Nadgradnja sistema odvajanja  komunalne odpadne vode v občinah Medvode in Vodice ter izgradnja povezovalnega kanala C0 v MOL« in projekt »Odvajanje in čiščenje odpadne vode na območju vodonosnika Ljubljanskega polja - izgradnja III. faze CČN Ljubljana« združita v en veliki projekt z naslovom »Odvajanje in čiščenje odpadne vode na območju vodonosnika Ljubljanskega polja«, ki se vključi v indikativni seznam velikih projektov Operativnega programa za izvajanje Evropske kohezijske politike v obdobju 2014 -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log sklep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dcterms:modified xsi:type="dcterms:W3CDTF">2015-03-26T08:16:50Z</dcterms:modified>
  <cp:revision>24</cp:revision>
  <dc:subject/>
  <dc:title>PowerPoint Presentation</dc:title>
</cp:coreProperties>
</file>